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E3E-4F5B-4E10-8C82-088A9A3EE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8BE-34A1-47A7-9EB7-5F37BA8B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A20-1145-4D8F-AF1C-B7B27F76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8FF-3DA7-43A6-B4A4-EC7EF0C43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B47-6AB4-4AE9-A481-CB8D2D30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5CD-CEE4-4D96-8732-D5C24082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BAF-84B7-4C0C-BE16-25325009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866-36F6-4D87-81CE-3B27C2B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E88-0262-42C2-A011-2498864F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DBB7-3C7C-45EC-A66D-C74C5F5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F3C-0F97-421A-872D-431346D5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A55-715C-4DC5-8A91-A1BD283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D122-969E-4C06-A76A-CF3FCC02B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11160"/>
          <a:ext cx="9117000" cy="6767640"/>
        </p:xfrm>
        <a:graphic>
          <a:graphicData uri="http://schemas.openxmlformats.org/drawingml/2006/table">
            <a:tbl>
              <a:tblPr/>
              <a:tblGrid>
                <a:gridCol w="1219320"/>
                <a:gridCol w="1523880"/>
                <a:gridCol w="1693800"/>
                <a:gridCol w="1855800"/>
                <a:gridCol w="1595520"/>
                <a:gridCol w="1228680"/>
              </a:tblGrid>
              <a:tr h="1778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aragraph requir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2 paragrap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3 paragrap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included all 4 paragrap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mmar accu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 errors make meaning completely unclear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t significantly hinder meaning in some instance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ly understandable, with errors that may impede comprehensibi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correct mistakes do not impede 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ows control of grammar with only minor mistakes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 did less than what was requir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d the  information but did not elabo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includes all requirements and adds to the presentation with extra inform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udent uses literary de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N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4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 and f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 demonstrates average to below average writing techniques – no opening paragraph or choppy flow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riter demonstrates good writing techniques with a good opening paragraph, which flows into subsequent paragraphs 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ehensi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main idea is unclear due to irrelevant details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riter clearly conveys the main idea, providing details and fulfilling all of the requirement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of Express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mid -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’s level of expression is consistent with a high novice level speak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 takes risks to manipulate the language and elaborate at an intermediate low level of proficien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60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adequate and inaccurate use of vocabul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inaccurate use of vocabulary and/or too basic for the level.   No or little vocabulary from our list was us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use of vocabulary with little or no variety. Used some vocabulary from our fairy tale uni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vel appropriate and varied use of vocabulary . Consistently used vocabulary from our fairy tale unit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120"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ventions/ sentence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y simple sentences or frag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es strings of simple sentences and phras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Uses strings of mostly simple sentences, with a few compound or complex sen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Develops mostly paragraph-length discourse with simple, compound (and, but and or) and complex (pusher) sentenc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Box 1"/>
          <p:cNvSpPr/>
          <p:nvPr/>
        </p:nvSpPr>
        <p:spPr>
          <a:xfrm>
            <a:off x="5257800" y="2462040"/>
            <a:ext cx="33526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ame:  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_______/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20:35:31Z</dcterms:created>
  <dc:creator>Alissa Hart</dc:creator>
  <dc:description/>
  <dc:language>en-US</dc:language>
  <cp:lastModifiedBy>Alissa Hart</cp:lastModifiedBy>
  <dcterms:modified xsi:type="dcterms:W3CDTF">2015-04-17T12:51:03Z</dcterms:modified>
  <cp:revision>5</cp:revision>
  <dc:subject/>
  <dc:title>PowerPoint Presentation</dc:title>
</cp:coreProperties>
</file>